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CBB-DEB2-4584-A5A0-0FECCD1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293-D2BF-48D5-8EA6-E275822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924-CA97-4B42-AFE5-8AE5E67B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BDF-DC59-4B17-8BB0-1AE6496A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0C1-AA7C-46F5-B021-3B7ECBD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0B05-BF45-4F1D-AF2A-E1B2907E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53AC-1AE5-4C36-B667-82B2DFB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27F5-9906-408B-8BD6-AA83653D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3E8B-84AB-4D41-8C65-6695B6E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3581-4863-4EC2-98FC-2B3C9A7A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3CF-EBFB-4ABD-A357-3FB9141D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FC9-6468-4D40-BD77-9E3B340B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1D5-3DE9-45E2-AA48-EDD14D7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BA7-DC4C-456D-B243-8F7598D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7DED-67F9-45C0-99B5-E37F537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C5F-2F7C-46C4-B147-6AA19D7A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BE2-73C2-4EC7-A9AF-DBEA5E67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37D-FABE-4C34-830F-5AE4F7A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111-2F81-484E-AD33-69F726EC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A6E-45C7-4F78-A4C3-0E9D7F6B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629-06F8-4351-B89E-83B339D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E8D-5361-42FB-82CC-E0A9771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3AF-B03A-4729-A827-438B28A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C33-38AD-4581-9AF1-2CEADB0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FFE-A1E4-47D8-B8CE-0E6AD49165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Bookman Old Style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A29-698F-4DB7-B616-9DDAB81CF2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ly.hiwaay.net/~wgann/survey/survey10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ly.hiwaay.net/~wgann/survey/survey11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Bookman Old Style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Quarter 8, Lesson 11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Pages74-79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Ezra 1 – 5:1; Haggai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Bookman Old Style"/>
              </a:rPr>
              <a:t>Summary of Haggai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Reform Their Priorities – 1:1-15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Rekindle Their Hope For a Better Temple In The Messianic Age – 2:1-9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Learn From The Mistakes of the Past and to Ponder A Glorious Future for The Faithful -2:10-23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3049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We Are Looking At This Slic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038480"/>
            <a:ext cx="609840" cy="2514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38680" y="426708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35-520 B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5000" y="5334120"/>
            <a:ext cx="228600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urn fr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ptivit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 Old Style"/>
              </a:rPr>
              <a:t>Reviewing The Periods of Bible History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Flood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Scattering of the People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The Patriarchs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Exodus From Egypt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Wilderness Wandering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onquest of the Land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Judges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United Kingdom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Divided Kingdom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Judah Alone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aptivity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*</a:t>
            </a:r>
            <a:r>
              <a:rPr b="0" lang="en-US" sz="2600" spc="-1" strike="noStrike">
                <a:solidFill>
                  <a:srgbClr val="ffff00"/>
                </a:solidFill>
                <a:latin typeface="Bernard MT Condensed"/>
              </a:rPr>
              <a:t>Return from Captivity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626600">
            <a:off x="2818800" y="4572000"/>
            <a:ext cx="1904760" cy="3808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304920"/>
            <a:ext cx="490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turn From Captivit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125280"/>
            <a:ext cx="8153280" cy="6669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Bookman Old Style"/>
              </a:rPr>
              <a:t>Summary and Review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996600"/>
                </a:solidFill>
                <a:uFillTx/>
                <a:latin typeface="Arial Rounded MT Bold"/>
                <a:hlinkClick r:id="rId2"/>
              </a:rPr>
              <a:t>JUDAH ALONE AND CAPTIVITY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 -- 2 Kings 15-25 (721 - 536 BC)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1. Kings: Hezekiah, Josiah -- Prophets: Jeremiah, Daniel, Ezekiel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2. Judah captured by Babylon and captives taken away in three waves.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1) Daniel &amp; 3 friends taken (associated with government) 605 BC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2) Ezekiel &amp; others taken (lived in colonies) 597 BC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3) Temple and Jerusalem completely destroyed 586 BC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Bookman Old Style"/>
              </a:rPr>
              <a:t>Summary of Phases of Return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500" spc="-1" strike="noStrike" u="sng">
                <a:solidFill>
                  <a:srgbClr val="996600"/>
                </a:solidFill>
                <a:uFillTx/>
                <a:latin typeface="Arial Rounded MT Bold"/>
                <a:hlinkClick r:id="rId2"/>
              </a:rPr>
              <a:t>RESTORATION</a:t>
            </a:r>
            <a:r>
              <a:rPr b="1" lang="en-US" sz="25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-- (Return From Exile) -- Ezra Neh. Esther (536-400 BC)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1. Persia conquers Babylon and allows a re-nationalization of captives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2. Zerubabel rebuilds the Temple; Ezra restores the law; Nehemiah rebuilds the walls. Prophets: Haggai, Zechariah, Malachi.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Bookman Old Style"/>
              </a:rPr>
              <a:t>Summary of Today’s Lesson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Proclamation of Cyrus – 2 Chron.36:22-23; Ezra 1:1-4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First Return Group – Ezra 1:1 – 2:70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Altar is Built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Sacrifices Begin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A Feast is Observed – Ezra 3:1-6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Work is Begun on the Temple – Ezra 3:7 – 4:5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Work on the Temple is Stopped – Ezra 4:6-24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Work of Haggai and Zachariah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4:51:35Z</dcterms:created>
  <dc:creator>Terry W. Benton</dc:creator>
  <dc:description/>
  <dc:language>en-US</dc:language>
  <cp:lastModifiedBy>Frank D Vines</cp:lastModifiedBy>
  <dcterms:modified xsi:type="dcterms:W3CDTF">2006-05-21T19:10:26Z</dcterms:modified>
  <cp:revision>3</cp:revision>
  <dc:subject/>
  <dc:title>A Remnant Shall Retu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